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64" spc="-1" strike="noStrike">
                <a:solidFill>
                  <a:srgbClr val="000000"/>
                </a:solidFill>
                <a:latin typeface="Arial"/>
              </a:defRPr>
            </a:pPr>
            <a:r>
              <a:rPr b="0" sz="1264" spc="-1" strike="noStrike">
                <a:solidFill>
                  <a:srgbClr val="000000"/>
                </a:solidFill>
                <a:latin typeface="Arial"/>
              </a:rPr>
              <a:t>MARIA JOSE</a:t>
            </a:r>
          </a:p>
        </c:rich>
      </c:tx>
      <c:layout>
        <c:manualLayout>
          <c:xMode val="edge"/>
          <c:yMode val="edge"/>
          <c:x val="0.439864572260935"/>
          <c:y val="0.02021066491112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83344305464121"/>
          <c:w val="0.959804732097162"/>
          <c:h val="0.795984200131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aria José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5</c:v>
                </c:pt>
                <c:pt idx="1">
                  <c:v>18.54</c:v>
                </c:pt>
                <c:pt idx="2">
                  <c:v>37.66</c:v>
                </c:pt>
                <c:pt idx="3">
                  <c:v>22.73</c:v>
                </c:pt>
                <c:pt idx="4">
                  <c:v>50.78</c:v>
                </c:pt>
                <c:pt idx="5">
                  <c:v>60.63</c:v>
                </c:pt>
                <c:pt idx="6">
                  <c:v>97.56</c:v>
                </c:pt>
                <c:pt idx="7">
                  <c:v>84.57</c:v>
                </c:pt>
              </c:numCache>
            </c:numRef>
          </c:val>
        </c:ser>
        <c:gapWidth val="100"/>
        <c:overlap val="0"/>
        <c:axId val="56609525"/>
        <c:axId val="12143962"/>
      </c:barChart>
      <c:catAx>
        <c:axId val="566095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43962"/>
        <c:crossesAt val="0"/>
        <c:auto val="1"/>
        <c:lblAlgn val="ctr"/>
        <c:lblOffset val="100"/>
        <c:noMultiLvlLbl val="0"/>
      </c:catAx>
      <c:valAx>
        <c:axId val="12143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095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16" spc="-1" strike="noStrike">
                <a:solidFill>
                  <a:srgbClr val="000000"/>
                </a:solidFill>
                <a:latin typeface="Arial"/>
              </a:defRPr>
            </a:pPr>
            <a:r>
              <a:rPr b="0" sz="2016" spc="-1" strike="noStrike">
                <a:solidFill>
                  <a:srgbClr val="000000"/>
                </a:solidFill>
                <a:latin typeface="Arial"/>
              </a:rPr>
              <a:t>MARIA JOSÉ 2008</a:t>
            </a:r>
          </a:p>
        </c:rich>
      </c:tx>
      <c:layout>
        <c:manualLayout>
          <c:xMode val="edge"/>
          <c:yMode val="edge"/>
          <c:x val="0.382307783158143"/>
          <c:y val="0.01967213114754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63651780667044"/>
          <c:w val="0.804023463643164"/>
          <c:h val="0.79604296212549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0</c:v>
                </c:pt>
                <c:pt idx="1">
                  <c:v>205</c:v>
                </c:pt>
                <c:pt idx="2">
                  <c:v>154</c:v>
                </c:pt>
                <c:pt idx="3">
                  <c:v>176</c:v>
                </c:pt>
                <c:pt idx="4">
                  <c:v>6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2</c:v>
                </c:pt>
                <c:pt idx="1">
                  <c:v>38</c:v>
                </c:pt>
                <c:pt idx="2">
                  <c:v>58</c:v>
                </c:pt>
                <c:pt idx="3">
                  <c:v>40</c:v>
                </c:pt>
                <c:pt idx="4">
                  <c:v>178</c:v>
                </c:pt>
              </c:numCache>
            </c:numRef>
          </c:val>
        </c:ser>
        <c:gapWidth val="100"/>
        <c:overlap val="0"/>
        <c:axId val="34509553"/>
        <c:axId val="1785502"/>
      </c:barChart>
      <c:catAx>
        <c:axId val="345095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502"/>
        <c:crossesAt val="0"/>
        <c:auto val="1"/>
        <c:lblAlgn val="ctr"/>
        <c:lblOffset val="100"/>
        <c:noMultiLvlLbl val="0"/>
      </c:catAx>
      <c:valAx>
        <c:axId val="1785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955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06125743081"/>
          <c:y val="0.38275862068965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4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927" spc="-1" strike="noStrike">
                <a:solidFill>
                  <a:srgbClr val="000000"/>
                </a:solidFill>
                <a:latin typeface="Arial"/>
              </a:defRPr>
            </a:pPr>
            <a:r>
              <a:rPr b="0" sz="1927" spc="-1" strike="noStrike">
                <a:solidFill>
                  <a:srgbClr val="000000"/>
                </a:solidFill>
                <a:latin typeface="Arial"/>
              </a:rPr>
              <a:t>MARIA JOSÉ 2009</a:t>
            </a:r>
          </a:p>
        </c:rich>
      </c:tx>
      <c:layout>
        <c:manualLayout>
          <c:xMode val="edge"/>
          <c:yMode val="edge"/>
          <c:x val="0.38278020550372"/>
          <c:y val="0.019881183459796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023699854336"/>
          <c:y val="0.169931180518793"/>
          <c:w val="0.804771465690327"/>
          <c:h val="0.7896006117287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8</c:v>
                </c:pt>
                <c:pt idx="1">
                  <c:v>127</c:v>
                </c:pt>
                <c:pt idx="2">
                  <c:v>164</c:v>
                </c:pt>
                <c:pt idx="3">
                  <c:v>162</c:v>
                </c:pt>
                <c:pt idx="4">
                  <c:v>58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5</c:v>
                </c:pt>
                <c:pt idx="1">
                  <c:v>77</c:v>
                </c:pt>
                <c:pt idx="2">
                  <c:v>160</c:v>
                </c:pt>
                <c:pt idx="3">
                  <c:v>137</c:v>
                </c:pt>
                <c:pt idx="4">
                  <c:v>439</c:v>
                </c:pt>
              </c:numCache>
            </c:numRef>
          </c:val>
        </c:ser>
        <c:gapWidth val="100"/>
        <c:overlap val="0"/>
        <c:axId val="13468073"/>
        <c:axId val="24279192"/>
      </c:barChart>
      <c:catAx>
        <c:axId val="134680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9192"/>
        <c:crossesAt val="0"/>
        <c:auto val="1"/>
        <c:lblAlgn val="ctr"/>
        <c:lblOffset val="100"/>
        <c:noMultiLvlLbl val="0"/>
      </c:catAx>
      <c:valAx>
        <c:axId val="24279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80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573048305185"/>
          <c:y val="0.37709546497264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8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F27A2-F29E-442F-A501-B59980D115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F12-B10B-460E-B720-C6CC36B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125-6F0A-406E-8E12-1EEB1DA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2F8-5DA2-421D-9BCA-37704D39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800-42DA-4664-9667-07437014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41D-2DC2-43FF-ACDA-FE6CCCD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2A0-D35D-48E9-993A-772B4F0B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1E7-57A0-4F42-BB53-385EC82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57F-55FD-4E43-A451-F0E5805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617-DAB5-4354-B42E-306B765F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4CB-BD05-4A8F-B838-333B183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BBB-33C4-4BC3-92A8-188E896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976-B08B-48E8-A3CA-F28011D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360"/>
            <a:ext cx="11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360"/>
            <a:ext cx="5253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280" y="6435360"/>
            <a:ext cx="5349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8A054-F64A-40C6-A737-C163B4E9A5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MARIA JOSÉ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00000"/>
          <a:ext cx="9144000" cy="5467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367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94" name=""/>
          <p:cNvSpPr/>
          <p:nvPr/>
        </p:nvSpPr>
        <p:spPr>
          <a:xfrm>
            <a:off x="2286000" y="979560"/>
            <a:ext cx="587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s disponíveis e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20720" y="63007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9280"/>
          <a:ext cx="9144000" cy="61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-52560"/>
            <a:ext cx="705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080" y="169380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ONOGRAMA DO PLANO DA EE MARIA J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160720"/>
            <a:ext cx="8771040" cy="4498920"/>
            <a:chOff x="228600" y="2160720"/>
            <a:chExt cx="8771040" cy="4498920"/>
          </a:xfrm>
        </p:grpSpPr>
        <p:sp>
          <p:nvSpPr>
            <p:cNvPr id="100" name=""/>
            <p:cNvSpPr/>
            <p:nvPr/>
          </p:nvSpPr>
          <p:spPr>
            <a:xfrm>
              <a:off x="228600" y="2160720"/>
              <a:ext cx="2862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90960" y="216072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5360" y="2160720"/>
              <a:ext cx="1065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0600" y="2160720"/>
              <a:ext cx="1141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11800" y="2160720"/>
              <a:ext cx="1065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77040" y="2160720"/>
              <a:ext cx="990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7760" y="2160720"/>
              <a:ext cx="73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" y="2517840"/>
              <a:ext cx="286236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0960" y="2517840"/>
              <a:ext cx="91440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5360" y="2517840"/>
              <a:ext cx="106524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0600" y="2517840"/>
              <a:ext cx="114120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11800" y="2517840"/>
              <a:ext cx="106524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77040" y="2517840"/>
              <a:ext cx="99072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7760" y="2517840"/>
              <a:ext cx="73008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873520"/>
              <a:ext cx="2862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90960" y="2873520"/>
              <a:ext cx="91440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05360" y="2873520"/>
              <a:ext cx="10652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0600" y="2873520"/>
              <a:ext cx="114120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11800" y="2873520"/>
              <a:ext cx="10652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7040" y="2873520"/>
              <a:ext cx="9907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67760" y="2873520"/>
              <a:ext cx="7300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" y="4105440"/>
              <a:ext cx="286236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0960" y="4105440"/>
              <a:ext cx="91440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5360" y="4105440"/>
              <a:ext cx="106524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0600" y="4105440"/>
              <a:ext cx="114120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1800" y="4105440"/>
              <a:ext cx="106524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7040" y="4105440"/>
              <a:ext cx="99072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7760" y="4105440"/>
              <a:ext cx="73008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4807080"/>
              <a:ext cx="286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0960" y="4807080"/>
              <a:ext cx="914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05360" y="4807080"/>
              <a:ext cx="1065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70600" y="4807080"/>
              <a:ext cx="11412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1800" y="4807080"/>
              <a:ext cx="1065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77040" y="4807080"/>
              <a:ext cx="990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7760" y="4807080"/>
              <a:ext cx="730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5510160"/>
              <a:ext cx="286236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90960" y="5510160"/>
              <a:ext cx="91440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5360" y="5510160"/>
              <a:ext cx="106524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0600" y="5510160"/>
              <a:ext cx="114120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11800" y="5510160"/>
              <a:ext cx="106524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77040" y="5510160"/>
              <a:ext cx="99072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7760" y="5510160"/>
              <a:ext cx="73008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5867280"/>
              <a:ext cx="28623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90960" y="5867280"/>
              <a:ext cx="9144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05360" y="5867280"/>
              <a:ext cx="10652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0600" y="5867280"/>
              <a:ext cx="11412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11800" y="5867280"/>
              <a:ext cx="10652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77040" y="5867280"/>
              <a:ext cx="9907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7760" y="5867280"/>
              <a:ext cx="7300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09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053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060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180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704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677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2517840"/>
              <a:ext cx="8769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" y="287352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410544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" y="480708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551016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586728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9784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" y="216072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665784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Rubens, Luciano e Silv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3280" y="9360"/>
            <a:ext cx="7056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